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2A39-B679-4337-B550-F98F588F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BD1-D004-485E-8B0D-46A9B29D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CEC-D0BF-4E4D-A46D-1BB16104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4E1-B683-45D7-A140-BED31256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C2B-82B0-48E4-A460-80DA8276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DFE-C480-48FD-AAA7-9E9AD0E4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969-BCE8-4B37-8AB9-7C559A4F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66C-5B73-4D61-99C5-D8A32F7C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6E3-B19C-4C2F-9F07-1A4477CF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1ED-FEF5-49E4-BB54-B2B4B649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868-0494-4C97-B35F-DAD9B3EF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CED-7CCF-42E2-A5BA-AC2E2B70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0127-2B23-4BA3-B788-073EFF5C5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838080"/>
            <a:ext cx="79250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s up, I am Legal Assistance: La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 am going to tell you about my career on becoming a Legal Assistance. First let tell what a Legal Assistance is and what are backgrounds or what work need to be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8:54:07Z</dcterms:created>
  <dc:creator>Thornwood High School</dc:creator>
  <dc:description/>
  <dc:language>en-US</dc:language>
  <cp:lastModifiedBy>Thornwood High School</cp:lastModifiedBy>
  <dcterms:modified xsi:type="dcterms:W3CDTF">2008-03-07T18:58:05Z</dcterms:modified>
  <cp:revision>2</cp:revision>
  <dc:subject/>
  <dc:title>Slide 1</dc:title>
</cp:coreProperties>
</file>