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A6D-AE9E-42DB-8E57-22C6957B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0A1-1E83-4AA0-BEE8-56FC0FC0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5AF-40B3-4022-BBC4-8E5FC66A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542-56EA-4B81-B57C-C33C43B9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B17-7600-48D9-935E-6CF56D54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358-C862-480A-A228-2B7308F8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E2F-51CA-4B02-B7F2-9E314543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F6D-4EEA-42B4-A132-ED55158F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270-1A33-4DDB-BAFE-43E1B0B1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DFB-7AF3-4F79-A87E-2F29AB0A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0C3-BABC-4DD8-912D-EA9DE85C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0F7-6FB6-4496-9799-23C08EF7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50D1-E9EE-45C4-9F97-EFDB9B8BD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838080"/>
            <a:ext cx="79250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s up, I am Legal Assistance: La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 am going to tell you about my career on becoming a Legal Assistance. First let tell what a Legal Assistance is and what are backgrounds or what work need to b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8:54:07Z</dcterms:created>
  <dc:creator>Thornwood High School</dc:creator>
  <dc:description/>
  <dc:language>en-US</dc:language>
  <cp:lastModifiedBy>Thornwood High School</cp:lastModifiedBy>
  <dcterms:modified xsi:type="dcterms:W3CDTF">2008-03-07T18:58:05Z</dcterms:modified>
  <cp:revision>2</cp:revision>
  <dc:subject/>
  <dc:title>Slide 1</dc:title>
</cp:coreProperties>
</file>