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F90-6FE1-4E18-B4A9-09A4F072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312-60A9-4643-903F-614F5799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D8C-9709-4EE4-A4E7-7F87E507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64E-A7E2-48D8-BC7F-99E37CC3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294-2FE7-4458-94F5-B53A30A4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3B0-DD8A-4071-B7E5-EA39C326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A93-35DF-4E00-90AF-F7E2C239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83E-82CC-4F99-AA82-C6C6D8FC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CC4-B3F5-49BB-B6DA-51F0E19E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A87-66A2-4E95-9216-AB51F128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3E1-FE17-4113-800F-C728662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D20-FE10-4E39-8232-E4AFD8F2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3990-F42E-4B94-9D46-F4B39FFDB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838080"/>
            <a:ext cx="79250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s up, I am Legal Assistance: Law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 am going to tell you about my career on becoming a Legal Assistance. First let tell what a Legal Assistance is and what are backgrounds or what work need to b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8:54:07Z</dcterms:created>
  <dc:creator>Thornwood High School</dc:creator>
  <dc:description/>
  <dc:language>en-US</dc:language>
  <cp:lastModifiedBy>Thornwood High School</cp:lastModifiedBy>
  <dcterms:modified xsi:type="dcterms:W3CDTF">2008-03-07T18:58:05Z</dcterms:modified>
  <cp:revision>2</cp:revision>
  <dc:subject/>
  <dc:title>Slide 1</dc:title>
</cp:coreProperties>
</file>