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E36-BF94-4F37-90A2-A262DA84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3CE-FCD5-4ACA-AFAE-409E59F0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165-8CBB-43A5-9975-90E26485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8AD-B68D-414D-92A7-4B98E191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9D5-82FF-4482-AD6E-77727A77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8449-ABD6-43D3-B9D6-BB3E1A69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5617-E6A0-430C-A024-D4F5DFC8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238-F266-4C2B-9CF5-B613BF90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A2E-A1F7-427E-9741-415E79D6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AAF5-D6B8-4F7C-B10D-6E761EEA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40CC-BB58-4B47-AFCB-41294662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F0A-F527-4759-92E4-68D8720D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1DA4-A14B-4C38-8A88-ADEE888A6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838080"/>
            <a:ext cx="79250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s up, I am Legal Assistance: Law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 am going to tell you about my career on becoming a Legal Assistance. First let tell what a Legal Assistance is and what are backgrounds or what work need to be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8:54:07Z</dcterms:created>
  <dc:creator>Thornwood High School</dc:creator>
  <dc:description/>
  <dc:language>en-US</dc:language>
  <cp:lastModifiedBy>Thornwood High School</cp:lastModifiedBy>
  <dcterms:modified xsi:type="dcterms:W3CDTF">2008-03-07T18:58:05Z</dcterms:modified>
  <cp:revision>2</cp:revision>
  <dc:subject/>
  <dc:title>Slide 1</dc:title>
</cp:coreProperties>
</file>